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8F44-EC6B-4D82-8323-751EE062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6607-906D-4E7F-9AF2-D5D58B74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AFA-EE9B-4628-ACFC-08EDC9CA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579-808F-4FAD-B9C1-169521911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FE1-5464-4AE4-AD93-AA5E53C92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A548-96AC-407A-8EFB-CD925721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370F-03CD-440C-8388-CCB00EC6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EBA9-59AF-4DDF-B2AC-A8EC1848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02EC-AD67-41F7-8C76-96B402FC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8E35-9780-4186-9941-81A40754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69EB-144A-4759-9785-DBBF22FB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8A8-3031-4F5B-9BF3-CA8E0CF1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B9A3-EBFE-42C2-82F7-4B81C3452FE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8 CuadroTexto"/>
          <p:cNvSpPr/>
          <p:nvPr/>
        </p:nvSpPr>
        <p:spPr>
          <a:xfrm>
            <a:off x="2714760" y="1214280"/>
            <a:ext cx="36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ffffff"/>
                </a:solidFill>
                <a:latin typeface="Showcard Gothic"/>
              </a:rPr>
              <a:t>ECOCITY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9 CuadroTexto"/>
          <p:cNvSpPr/>
          <p:nvPr/>
        </p:nvSpPr>
        <p:spPr>
          <a:xfrm>
            <a:off x="7143840" y="5643720"/>
            <a:ext cx="200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otlight MT Light"/>
              </a:rPr>
              <a:t>Rostin Rive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otlight MT Light"/>
              </a:rPr>
              <a:t>Carla Bor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Footlight MT Light"/>
              </a:rPr>
              <a:t>Yunuwy V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 Imagen" descr="GermanyMap.gif"/>
          <p:cNvPicPr/>
          <p:nvPr/>
        </p:nvPicPr>
        <p:blipFill>
          <a:blip r:embed="rId1"/>
          <a:stretch/>
        </p:blipFill>
        <p:spPr>
          <a:xfrm>
            <a:off x="0" y="0"/>
            <a:ext cx="607068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4 CuadroTexto"/>
          <p:cNvSpPr/>
          <p:nvPr/>
        </p:nvSpPr>
        <p:spPr>
          <a:xfrm>
            <a:off x="6429240" y="2571840"/>
            <a:ext cx="221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otlight MT Light"/>
              </a:rPr>
              <a:t>Hambur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Footlight MT Light"/>
              </a:rPr>
              <a:t>Germ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1 Imagen" descr="map.jpg"/>
          <p:cNvPicPr/>
          <p:nvPr/>
        </p:nvPicPr>
        <p:blipFill>
          <a:blip r:embed="rId1"/>
          <a:stretch/>
        </p:blipFill>
        <p:spPr>
          <a:xfrm>
            <a:off x="642960" y="0"/>
            <a:ext cx="788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Imagen" descr="ecocity_overview.png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5751360"/>
          </a:xfrm>
          <a:prstGeom prst="rect">
            <a:avLst/>
          </a:prstGeom>
          <a:ln w="0">
            <a:noFill/>
          </a:ln>
        </p:spPr>
      </p:pic>
      <p:sp>
        <p:nvSpPr>
          <p:cNvPr id="47" name="3 CuadroTexto"/>
          <p:cNvSpPr/>
          <p:nvPr/>
        </p:nvSpPr>
        <p:spPr>
          <a:xfrm>
            <a:off x="1714680" y="6072120"/>
            <a:ext cx="52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Footlight MT Light"/>
              </a:rPr>
              <a:t>Ecocity – TEC architecture and ARU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3 Imagen" descr="untitled.bmp"/>
          <p:cNvPicPr/>
          <p:nvPr/>
        </p:nvPicPr>
        <p:blipFill>
          <a:blip r:embed="rId1"/>
          <a:stretch/>
        </p:blipFill>
        <p:spPr>
          <a:xfrm>
            <a:off x="0" y="714240"/>
            <a:ext cx="906948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 Imagen" descr="ecocity-lead01.jpg"/>
          <p:cNvPicPr/>
          <p:nvPr/>
        </p:nvPicPr>
        <p:blipFill>
          <a:blip r:embed="rId1"/>
          <a:stretch/>
        </p:blipFill>
        <p:spPr>
          <a:xfrm>
            <a:off x="-9360" y="357120"/>
            <a:ext cx="9153360" cy="61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1 Imagen" descr="ecocity-ed01.jpg"/>
          <p:cNvPicPr/>
          <p:nvPr/>
        </p:nvPicPr>
        <p:blipFill>
          <a:blip r:embed="rId1"/>
          <a:stretch/>
        </p:blipFill>
        <p:spPr>
          <a:xfrm>
            <a:off x="0" y="0"/>
            <a:ext cx="5281560" cy="6864480"/>
          </a:xfrm>
          <a:prstGeom prst="rect">
            <a:avLst/>
          </a:prstGeom>
          <a:ln w="0">
            <a:noFill/>
          </a:ln>
        </p:spPr>
      </p:pic>
      <p:sp>
        <p:nvSpPr>
          <p:cNvPr id="51" name="2 CuadroTexto"/>
          <p:cNvSpPr/>
          <p:nvPr/>
        </p:nvSpPr>
        <p:spPr>
          <a:xfrm>
            <a:off x="5286240" y="1643040"/>
            <a:ext cx="3857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Wind Turb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Solar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Green roo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Footlight MT Light"/>
              </a:rPr>
              <a:t>Sustainable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23:25:37Z</dcterms:created>
  <dc:creator>Asrock</dc:creator>
  <dc:description/>
  <dc:language>en-US</dc:language>
  <cp:lastModifiedBy>Asrock</cp:lastModifiedBy>
  <dcterms:modified xsi:type="dcterms:W3CDTF">2009-11-26T00:15:46Z</dcterms:modified>
  <cp:revision>5</cp:revision>
  <dc:subject/>
  <dc:title>Diapositiva 1</dc:title>
</cp:coreProperties>
</file>